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4B6-A2DA-4AA7-BF60-0CB0481B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22C2-4A14-4F69-904D-8A2F298C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EA9F7-7974-4388-BE4B-6A096B09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F722D-0D2C-4A53-893F-87F3135D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43B8A-5440-4792-837A-0D275567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82000-4336-46A9-8F0C-A6887F8E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74273-4A4D-440C-84ED-567AC4EC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3C955-2C00-49B1-BE7C-3098A24C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D8E73-75E1-4E6E-9D1C-1D36F511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411FB-2229-4AAF-9F4E-82A0D845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B4492-B417-4136-959F-E1078853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5C984-BF45-479B-8A3F-505FE651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480F-8767-479B-95BE-28690844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3AF9D-DD8F-446F-A85E-AE5AD6B0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CD16C-AEE8-4EDD-95D0-039FFA8C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4963C-CC12-480A-A846-D70BB138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58591-7F82-4972-8E3A-D5E3991F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03651-196C-446E-B98E-BFBAA594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F825F-3F96-46AD-876E-E66E5A4F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3A1D8-397F-4F3D-BC1A-A7D5C6E0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98AC8-6257-4A82-AB7D-1D8046FB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9291C-1708-4D6A-84CA-9DDE4D22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C0FE1-8C87-4C19-9C4C-1E8FF15F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529-4906-490F-B210-C8C5E15A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2860C-97BB-47C6-9DDC-63895A9E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E6E37-4824-4914-8EB9-6A4E4B4F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4138F-CF89-461D-A17C-26A9EF3A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9F6EC-B69A-4C6E-9D67-66A44E3C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437C7-7093-45A7-8534-3E602413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4D22F-1ACD-493A-B5C1-6A0460A7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73810-85A1-4BF7-9FC6-CB0E2C9C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BBF6C-BFAE-48A9-BDDE-172685A6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8C03F-147D-497B-8BE5-0F29AAFC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6D609-FD0A-47DF-BE0B-FD99DF88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F612-830B-4CA7-9ACA-A5A1DF58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2AA32-10EF-4850-B7ED-D6FF446C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C67FB-4789-4D67-9577-08D74D8D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390E9-86B7-42EF-9E3F-4CEA4BE6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B4FED-85B2-43B1-A680-6826A7D2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B1B10-5027-4789-AB5E-4795B7C1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E50F8-DB8C-4EC1-B65F-4CE88397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8EEF07-8E57-458F-B465-DDD58A7C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75B71-A0D8-4839-A665-5FA2FDCD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F5B43-E20C-48BC-B907-3171E195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99180-012A-45A7-ADF9-76B47391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69A4-04D2-42E4-8229-721385BF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05038-394A-45DF-9BD1-4299D1D4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F6586-FFDC-4955-9B15-E24BF53E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DBFA2-54A7-4DCF-8CD5-F599A857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F21FF-68C6-4ABE-85AA-853A7B5C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74250-F9C0-4DF2-8BB1-85209405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AA3C78-13E4-4535-A72A-E1D2724F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3B7A7B-8A87-4C42-A165-FA81844C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542BB0-04AE-49C8-925F-EB937984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37F80-BDAB-4A5B-9135-144A21E5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52C4BC-19DA-4B91-AD11-20BAAE8F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0544-CBAE-48F7-8BA4-4F791F2D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0D96F1-C5A1-4AA3-A2C2-F4FAEB46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AE97C2-609E-4C9B-8E5E-7C9FD37A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76492-B8F8-4271-A8C2-97138240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19266C-C4C2-41BB-B2C0-DF978221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FCDA9B-8379-46CC-8677-7D1C628A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58599E-A26B-4AE1-A26E-5EDB8789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6B76FA-4191-4437-9DE7-AACD6187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4CCF5F-B19A-4BF1-98F5-0A61DC92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7EC89F-E944-46AD-8377-8E825A49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6932FE-4737-4A95-AFE5-F9587945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711D-CE63-4CEF-A484-421D4C29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42F9F-3E02-4B70-8154-72300339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717174-0947-4FDF-9005-630804B0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3BE288-8A2C-4643-BCD9-C1D75AC5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5491EA-C4DD-4AB0-9E27-D670B9CC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175108-43AE-4BD7-A734-EE6615FB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767AC9-E6D5-4C13-BB72-0BDDC60E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5CCB03-C9B5-4DC2-BA78-3841A3DE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B29CC0-0A31-4776-8D4B-CC24C93A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37806D-37DB-4D89-93FD-0FA91577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58EDCB-EB00-41D4-8B43-8A54DBD8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D54B-1F35-4582-BF1E-9E7FC5E9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F5F69B-5479-43E1-8076-E5EFB4F4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7CD2A2-B6F0-4332-8B3B-6C3B59EC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C599A3-AE72-4BC3-933D-C7CF04BA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23C0F9-305B-436B-87CE-77E01AEA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FF3CF-4D1C-400C-9A12-30720C00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43E5BB-A7BB-4262-BDFF-7C17C192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5ABCF5-8205-44B6-944A-B843EA87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170775-E971-47F8-B60D-DEC2C61B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F172C5-2562-40F7-9AE9-0CE19820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9E3AE0-86D1-4D34-BF95-EAF98D65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9B64-56D9-4ABB-A5BF-24F4E59F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1A2409-0D81-46B8-9A54-5D855359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503962-9CD5-40B5-B1C9-52C5C076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FB84A4-EDD7-4961-97B7-6852B2AE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F2CE2E-29C4-4DFA-8728-B3F12E92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3EDBFA-76AC-4D14-9CAD-72522993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1B6383-1CD4-4642-80F6-FAC8DE04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E6FE79-EB32-4328-81C8-0E44FB16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208B7B-680E-4759-91E2-8D15F907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20EC99-3D45-45C7-9602-7B0F95D3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B18E09-465F-4DBB-AFD9-A5D31910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E385-DC6F-40C2-8132-B92A78DB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BA0B7C-7FE9-4219-AD13-6BAE4E97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D0CFE0-95FB-4498-A7D0-618996CD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749F7A-056E-4CA8-AA2D-AC13FA08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6695E8-22EF-4729-B492-5176A474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5FDC91-779B-4AAE-9222-D1BE591A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247AA0-084A-4389-A40A-ADCB6103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481DAF-1C53-469C-B4FF-94676644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899391-70F3-4A50-B6FB-C73BD860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77C2C9-F7EF-4EF0-BFE1-3B8AD6DD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AA1EA5-4FA8-48E8-BC7A-AD470038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1C5-AD9D-429F-B253-0D9F1E3C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22C4-1B76-4DEE-9504-9B8CB896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5DC64B-8669-426E-94E1-6AC4F209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47FB78-21D5-40C2-8F6E-425297EF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18676E-2BA4-4D7E-A84B-F42837D2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A8CED4-C64C-4E72-8CA3-C0959BFE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281EFF-B5E9-4CDF-9F45-CADA33A2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8F9293-63DB-4515-85BD-984EEE05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21C113-066E-4742-BD2B-EB329723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F05FFA-4136-41D1-9DF0-DF6E60E4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E843A2-034B-4AD4-9868-AD99FB2C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804170-E2AA-4448-AE0A-022A824A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2C08-BA41-4135-8E74-B1CDC430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310E0B-BE96-43AE-9C8A-D59179F2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3CBB8D-00D6-4602-B988-6B821B34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D14BDE-85A3-4BD3-9140-AF1D835A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A2FFE3-FD64-4F82-B8C4-685B8209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24E7B0-8910-433F-9255-19CFF5BD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A77781-8A57-46B3-8CFC-57B0D82B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A45E6D-4AA6-4810-BD1C-9CF67DB8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77F7BB-C93B-4A92-8FA7-84EA01FE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4B0442-F49C-4462-8DA5-142381EE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B951CD-6C99-4198-A4CC-2E123983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D033-1833-41A3-AC7B-79C534EB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728FBC-84A8-4380-B737-F6A6BDAC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CBE34F-A0F0-4E57-B1E3-22E31E29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CB45C3-0E2A-4C2E-AFE4-3C75CABC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36FEE4-9D40-4113-913C-8FFD441D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0649BC-2225-42FB-8202-B9BBE290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457A47-CB95-42DC-987A-EF6BE09C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E4453B-922C-4D30-936C-99063707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66BD70-BBD7-497C-AC81-B6195435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F6C2FA-B3EE-4A26-83F8-A5D74841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19D7BB-B35C-4C34-B16B-4306BEE9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6A39-4264-420D-914C-8569531F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EC9D8F-BA5D-4925-B405-D1C8EB92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29AAAD-9B6D-4D59-8C3F-3910BCAF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5F74A8-8F2A-4E9D-9354-47BF75D7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13FA21-23B3-4A24-BF77-98C6C07D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53FA84-1011-48EB-AB4B-F2F339A8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049F7E-D7C8-46AE-8321-7D4CB998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C4E1FA-41D6-4BBE-B14C-0A3FA727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851E25-F1BF-4879-8993-0C048028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DA54E9-BFB3-431A-859C-C2BED0BB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BC26BD-8359-4A75-8943-03A5CE2B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25F1-E64A-42FB-AD1C-4CC2B1F5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021416-105F-4D14-8534-60D7E4DA5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C088D0-4624-4200-A737-23E51BC0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485AC8-3497-4A11-A2BA-D06D9F33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F1FAC0-83B3-4B25-B95C-5959776A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17D152-68BD-4B70-AAF6-F4C4AE8E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D345F4-B27D-4819-9406-FDA155A0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B60479-DC5B-412E-975F-B52B1924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AA16B4-6F86-48C3-8EC6-838C7FBD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FD2C37-0F55-4062-9D44-12C62377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E37F21-8158-4F9A-8FC6-9B64C482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522CC-E09D-4C71-9095-601B9BB8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CD8087-6095-4DE0-8B9F-A78D99AB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277C59-3DE5-4A02-861E-91894DBA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D96461-C7C4-4727-9CBA-03FEA460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DB12C-E318-40F0-B00E-A41C1BBB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10096-3219-416F-9075-4B95A12F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1F417-AE33-4507-801C-1409BB7D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81E7A-A79E-481E-84F7-7695B9D4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6ECC-992F-42FA-8236-3A3839D6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D351E-302B-4E87-8A08-48F5ACA5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47478-47ED-4255-805F-2CF6E55A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F86BA-C906-4479-96FB-2CCA4F8E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B36A7-615F-4003-AC9A-9DA8E6CC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53C96-8EC8-430F-971C-F2F1CFD8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26033-009A-4928-918E-9EE23222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8C28B-EC8F-4883-902E-939AE6BF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AF381-EBED-4BC5-A64A-010EC816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5F9C7-215D-4C08-90AF-297F18D3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2202D-7B99-4124-9534-20C8BBCD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E857-A768-4314-9090-6083F1A6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D966C-7FF7-48A5-9237-6B5ACD19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66DC5-FD64-4249-89DF-FD08E757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61461-1B28-4092-AA0B-98342334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02BE3-C1CB-441F-B3DE-2BC05A22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9B05E-C69B-487A-9BA7-C1AED5E5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39150-7A92-435D-8C96-AAF4DE8B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39105-6FD9-4350-8652-3DAE4F0C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01368-2076-417B-AAC2-851CF657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8DFED-27AB-42A1-A81F-645E7A67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C5CF2-B6E3-4D5E-97A1-457C103F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BD09-9AF8-4318-8FFF-FD17767D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D6C0E-02F2-4CAC-AEB0-F3BED3AB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B5ADC-723B-4A18-92AA-F07F47E5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E5620-FB54-4050-8EE0-E53BAFAF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275EC-1665-40A1-B71F-A005D641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138D6-B8E2-49F8-BAC5-37DEC236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29CB8-F0B0-4AF5-B6C7-EFF0A883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40E7B-07F3-4A11-BD4E-714690D9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1BB8C-22F7-4293-BBBD-9CF0A9B6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C6A3C-96F8-4F30-A726-50B7C20A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79FAF-4DF8-43DA-B186-C9BE5E2F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86D9-5263-42DA-9D7A-F659FAD8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ED854-5B05-496D-8F10-20AE1F8D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5DE44-2240-46DD-8144-BA8B5B4F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ECBC5-8F51-4F21-A0CD-82DD5F5E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33E18-DD1E-4498-9031-33080CAA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E020F-2AF9-4A4E-BA1A-DD9BB35A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407C9-EABF-4EA7-9C92-4AB0839F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A743B-7363-4449-B516-E2A92925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4D8E5-7215-4864-A28B-739191B7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BC442-CC61-432F-86F5-9A376A7D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60BD2-1F44-4B51-B4B8-D0F65C93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BFC9-21A5-4075-8DB2-BDC72152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77A3E-59CD-4D3B-B04F-448B139A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5F5F9-6DC3-41C0-92BC-85B6A52C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247AF-8877-4D49-AB08-A349FFFC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363F6-2861-447C-AF74-F420B370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7CE78-9D10-4D93-BE49-B23648B7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F5C5B-4D3A-468D-BFB6-937EBB1B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5990E-E13A-41D9-8FC8-6AD5BF41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9F81C-6623-416E-B27E-83B0FB65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492E1-A26B-4165-BF6A-C57FF3FF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4459F-849B-4679-861A-AF7ED081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B51C-BCBA-4986-9969-03ADC81D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FB491-A922-4190-B296-E35566C9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FB7B6-AA6E-4E78-A208-C627E15F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AE47E-1E21-48FB-9A71-B7C2EFE1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13A1C-A805-4977-B69F-143656A1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12DAC-C1AC-444A-BC8C-021D10E3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290DD-0E68-49FE-85C7-E5AB8082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79C38-B758-407A-9B57-2F7320E4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F4AC0-800D-498F-A2B6-C9F8D9DA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D1817-6751-4E1A-B374-862692DB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C570C-139E-4EBD-A09D-660AC842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4519-8BBB-4C92-813B-31A619F8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FE333-5440-4B58-9C21-F2FF91C8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EEAB0-49E9-4254-A972-B33C5F85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A4963-0044-4C51-92BB-B3BE4329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B7841-6527-4331-824D-BF69D230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9D338-B10C-417C-A7E2-3BF1BE01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5FDA8-BD3F-43A8-9B65-B494433F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D5EC2-5447-4FD2-B721-AFC68648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F198D-BB65-4F3A-BC83-D302D9F2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B9FDB-FB9A-4A3D-8D5B-E9B8F30D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6373F-6CDA-4A96-8800-D590A631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F56B-D4A4-421C-A738-7C715DA3D3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C5FD-E114-4B01-A533-A4E0480ADB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D5F6-5FBF-4F4F-A92B-0B46C2107F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B28B-12D2-466D-AB99-2A778998CE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982C-0425-443F-AD62-4111A7FC9F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0F70-985D-4670-B638-87675769D5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015F-416B-4379-8211-2460666AE5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CBFA-EAF7-44C0-9EFE-223C979FBD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499D-4319-4F19-A95D-A3FC546162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AAE7-5296-4077-AF8A-3A071B3FFC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E1F5-6A75-48AE-BF08-552AEAD3AC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67FE-1868-4E8F-98DE-54DCB96733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5D72-D3FB-440D-8349-BD3A452F58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0006-F2D5-4E0A-B2DF-8F04342CA9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BFC2-E612-4DAE-9D45-C1E52A277B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AED7-43FF-49C3-BD96-E7BB6FE1AA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6D01-5A45-4D2D-BEF8-43A20DD339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BB48-C5CB-45BA-9E11-802043E2DC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5067-DB18-46D0-8DC6-D164EC1383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BAAD-A5D0-4979-BA7F-1444E38153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64ED-FA6D-44BE-95B3-1B22B10598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2D65-EECF-4F2B-8F45-477E98AB71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6592-EFFE-41DB-B1DB-BD1EFEEB79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C5AD-A0A8-4D9F-A3A8-6E53EE9AA2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60D7-1C74-4259-B5B9-EF73AFCA12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3E90-B301-44CA-A133-A29FAEA373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9DD1-B33B-49B3-B7D4-4C678CFA5C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9B22-DC0B-4FAC-A8A8-A56BF44A11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4F7C-B2C0-4629-B225-BFD2EFE37A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FD5F-6E8A-4261-AA55-5A427336B5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AA69-202B-43B6-B842-A6BE11CB3D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0170-D787-4226-B23C-C75EDE0111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28EB-21F3-4F8C-B2C3-FC5570DE8D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F73B-4A5E-434D-9E0E-9EEB7A7D43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4997-BD2C-4DF8-AF45-BF916E5449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4CA2-738D-4F56-ACF5-CF69625AB4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3880-B51A-4617-A154-A14B2BFCCD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EAD3-ABCC-410C-8933-7D7D55674B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6069-57D1-4315-A07B-B121BFA70F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1ACD-74E2-4DB4-93A2-1481EDE936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309760" y="3157560"/>
            <a:ext cx="45244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442800" y="1219320"/>
            <a:ext cx="8258400" cy="44193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050920" y="36529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708360" y="3645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292720" y="3645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588000" y="3654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7956720" y="3654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28" name="图片 60434" descr=""/>
          <p:cNvPicPr/>
          <p:nvPr/>
        </p:nvPicPr>
        <p:blipFill>
          <a:blip r:embed="rId7"/>
          <a:stretch/>
        </p:blipFill>
        <p:spPr>
          <a:xfrm>
            <a:off x="1744560" y="4559400"/>
            <a:ext cx="67723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847800" y="2124000"/>
            <a:ext cx="7448400" cy="2610000"/>
          </a:xfrm>
          <a:prstGeom prst="rect">
            <a:avLst/>
          </a:prstGeom>
          <a:ln w="0">
            <a:noFill/>
          </a:ln>
        </p:spPr>
      </p:pic>
      <p:pic>
        <p:nvPicPr>
          <p:cNvPr id="930" name="图片 59411" descr=""/>
          <p:cNvPicPr/>
          <p:nvPr/>
        </p:nvPicPr>
        <p:blipFill>
          <a:blip r:embed="rId2"/>
          <a:stretch/>
        </p:blipFill>
        <p:spPr>
          <a:xfrm>
            <a:off x="1657440" y="2695680"/>
            <a:ext cx="6324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8373" descr=""/>
          <p:cNvPicPr/>
          <p:nvPr/>
        </p:nvPicPr>
        <p:blipFill>
          <a:blip r:embed="rId1"/>
          <a:stretch/>
        </p:blipFill>
        <p:spPr>
          <a:xfrm>
            <a:off x="109440" y="981000"/>
            <a:ext cx="8925120" cy="48960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900000" y="5219640"/>
            <a:ext cx="503280" cy="25740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58375" descr=""/>
          <p:cNvPicPr/>
          <p:nvPr/>
        </p:nvPicPr>
        <p:blipFill>
          <a:blip r:embed="rId3"/>
          <a:stretch/>
        </p:blipFill>
        <p:spPr>
          <a:xfrm>
            <a:off x="1825560" y="2482920"/>
            <a:ext cx="1171800" cy="10191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2843280" y="5229360"/>
            <a:ext cx="50328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4859280" y="5229360"/>
            <a:ext cx="50328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6"/>
          <a:stretch/>
        </p:blipFill>
        <p:spPr>
          <a:xfrm>
            <a:off x="8494560" y="254628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7"/>
          <a:stretch/>
        </p:blipFill>
        <p:spPr>
          <a:xfrm>
            <a:off x="8604360" y="29718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8"/>
          <a:stretch/>
        </p:blipFill>
        <p:spPr>
          <a:xfrm>
            <a:off x="8604360" y="337644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9"/>
          <a:stretch/>
        </p:blipFill>
        <p:spPr>
          <a:xfrm>
            <a:off x="8594640" y="37893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0"/>
          <a:stretch/>
        </p:blipFill>
        <p:spPr>
          <a:xfrm>
            <a:off x="8379000" y="42210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1"/>
          <a:stretch/>
        </p:blipFill>
        <p:spPr>
          <a:xfrm>
            <a:off x="8379000" y="46101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2"/>
          <a:stretch/>
        </p:blipFill>
        <p:spPr>
          <a:xfrm>
            <a:off x="8388360" y="50418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3"/>
          <a:stretch/>
        </p:blipFill>
        <p:spPr>
          <a:xfrm>
            <a:off x="8388360" y="5445000"/>
            <a:ext cx="2890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36:01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